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3FF-B120-4491-84CA-E5E4DBBD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A29-FCE0-4B91-B2BA-E0D27517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6CD-9A56-4415-9766-F5E16BB8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697-2E22-4AE6-975C-0A88CA57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91E-362A-4A49-9727-F0A1472F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E1A-0956-44EF-B9E0-D320B6D9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A3F-9DC9-436F-95DD-490EA673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4E9-F61A-40CE-B981-BC141172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B47-91F3-4C9E-9F7D-A5BB4E8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741-23ED-4AE8-A977-B08B6E49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283-E68F-4CAB-90A3-197F36B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9F8-4652-4CF0-8CC9-B5318C9B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3BF6-F7F4-4047-A823-C196C232E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Free Body Diagram Calculations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5334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ti Andre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 Salle 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228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 – Draw a free-body diagram for a box resting on a flat surfa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143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90920" y="914400"/>
          <a:ext cx="343836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914400"/>
                    <a:ext cx="343836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26708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28600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67080" y="1066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9907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04920"/>
            <a:ext cx="86868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the box has a mass of 10. kg, what is F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276720"/>
            <a:ext cx="4419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mg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289548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the object is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943240" y="33526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57913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YI: A bathroom scale always shows the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4419720"/>
            <a:ext cx="5029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mg    and therefore                                           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10 kg)(9.81N) =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98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280"/>
            <a:ext cx="83055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2 – Draw a free-body diagram for a box resting on a flat surface and being pushed by a hand with a force of 40.0 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4572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280"/>
            <a:ext cx="8305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the box has a mass of 10. kg, what is the normal force on the bo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4572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14479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mg +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13372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10 kg)(9.81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4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38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s it “legal” to add these units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90960" y="19810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522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3 – Using the same free-body diagram for a box resting on a flat surface,  this time we’ll pull on it using a rope and a force of 40.0 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956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5812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049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normal force if the mass is again 10. k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956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812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9907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819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99072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mg -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1676520"/>
            <a:ext cx="579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(10.kg)(9.81m/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– 40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51460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58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4:52:46Z</dcterms:created>
  <dc:creator>marti andreski</dc:creator>
  <dc:description/>
  <dc:language>en-US</dc:language>
  <cp:lastModifiedBy>andreskim</cp:lastModifiedBy>
  <dcterms:modified xsi:type="dcterms:W3CDTF">2004-10-11T14:15:18Z</dcterms:modified>
  <cp:revision>123</cp:revision>
  <dc:subject/>
  <dc:title>Why Study Physics?</dc:title>
</cp:coreProperties>
</file>